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25F-40DF-4F6E-8F06-998042E4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0CC-BE9C-4989-8E66-46B7E409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1C9-3AC9-4AE6-BDF6-2E196880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8D7-87BC-4180-8D0A-40B662C4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810-549F-44FC-A922-732F75E0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43A-D05C-425C-98C5-AE2E8165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A70-294A-478E-A055-C943EF62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5EAA-5857-43AE-ABEC-CDB165A8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534-2DBA-4DE5-A431-DB99DFF8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E44-CFBF-4218-BCD4-0576983A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402-1D7D-48C3-B1E6-D35FD02D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7BB-B7F2-4333-ABA8-01A059B7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5315-7789-4D2F-9DAE-816DE2C75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ctld_logo_01"/>
          <p:cNvPicPr/>
          <p:nvPr/>
        </p:nvPicPr>
        <p:blipFill>
          <a:blip r:embed="rId1"/>
          <a:stretch/>
        </p:blipFill>
        <p:spPr>
          <a:xfrm>
            <a:off x="4788000" y="333360"/>
            <a:ext cx="3809880" cy="2438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is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25 мая</a:t>
            </a:r>
            <a:br>
              <a:rPr sz="4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ксим Благонра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501300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898989"/>
                </a:solidFill>
                <a:latin typeface="Arial"/>
              </a:rPr>
              <a:t>Хостмастер”,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6659640" y="765000"/>
            <a:ext cx="1851120" cy="1849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il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, .pro, .org, .asia, .aero. .m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.i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ени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нформации о регистран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тмена пре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ущего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 от изменени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is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ерш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говор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ANN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 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Ð ÐµÐ·ÑÐ»ÑÑÐ°Ñ Ð¿Ð¾ÑÑÐºÑ Ð·Ð¾Ð±ÑÐ°Ð¶ÐµÐ½Ñ Ð·Ð° Ð·Ð°Ð¿Ð¸ÑÐ¾Ð¼ &quot;afilias&quot;"/>
          <p:cNvPicPr/>
          <p:nvPr/>
        </p:nvPicPr>
        <p:blipFill>
          <a:blip r:embed="rId2"/>
          <a:stretch/>
        </p:blipFill>
        <p:spPr>
          <a:xfrm>
            <a:off x="4067280" y="3062160"/>
            <a:ext cx="46512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дуще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инималь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й объем информации в открытом досту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колько уровней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снование доступа к данным сверх соответствующе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вня п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му запро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4500720" y="3860640"/>
            <a:ext cx="43671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186920" y="3212640"/>
            <a:ext cx="64803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hostmaster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is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@hostmaster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ctld_logo_01"/>
          <p:cNvPicPr/>
          <p:nvPr/>
        </p:nvPicPr>
        <p:blipFill>
          <a:blip r:embed="rId1"/>
          <a:stretch/>
        </p:blipFill>
        <p:spPr>
          <a:xfrm>
            <a:off x="4211640" y="404640"/>
            <a:ext cx="4643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STRDAM,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.F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ктябрь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чина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4969080" cy="27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PR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General Data Protection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тупит в силу 25 мая 201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ит более ранние дир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ть – вернуть человеку контроль над своими персональными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is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публикация в открытом виде дан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ие данные доменного и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актная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вроп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С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62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NTIA (США). Whois – краеугольный камень прозрачности работы интернета. Надеемся, он останется надежным и доступным источником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комиссия. Полная информация для правоохранителей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ная - для друг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егорий 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6502320" y="170028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5148360" y="4006800"/>
            <a:ext cx="33908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екомендаци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A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ый доступ – организациям, которые получили сертифика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ANN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охранительные орга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ем осталь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ым - регион и страну регистрации, организацию (если есть). Контакт - пересылающий адрес почты или веб-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нт может выбра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ображение полн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и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5148360" y="3213000"/>
            <a:ext cx="33289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ники рынка не успевают, по оценкам им необходим год для разработки нов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ногоуровне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i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ребует, чтобы операторы проводили оценку законности предоставления данных по каждому запросу, что потребует вмешательства человека в работу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(Латв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к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ты 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я, фамилия, адрес физического 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12 апреля скрыты конта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ируется сделать веб-форму для связи с регистра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684360" y="4508640"/>
            <a:ext cx="4535280" cy="20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5258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(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ман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ус домена, технических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министративных и технических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вопро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обращений, связанных с недобросовестным использованием и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а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дре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есыл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ная информация для тех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подтвердил свой интерес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да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3986280" cy="2446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Ð ÐµÐ·ÑÐ»ÑÑÐ°Ñ Ð¿Ð¾ÑÑÐºÑ Ð·Ð¾Ð±ÑÐ°Ð¶ÐµÐ½Ñ Ð·Ð° Ð·Ð°Ð¿Ð¸ÑÐ¾Ð¼ &quot;ÐÐµÑÐ¼Ð°Ð½Ð¸Ñ&quot;"/>
          <p:cNvPicPr/>
          <p:nvPr/>
        </p:nvPicPr>
        <p:blipFill>
          <a:blip r:embed="rId2"/>
          <a:stretch/>
        </p:blipFill>
        <p:spPr>
          <a:xfrm>
            <a:off x="2124000" y="4076640"/>
            <a:ext cx="381636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Dad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й крупный регистратор мира, находится в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 выдается информация на 43 порт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ектронная почта, адрес, телефон регистр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25 мая не буде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бликоватьс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о регистранте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в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5219640" y="3860640"/>
            <a:ext cx="259092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4:04:17Z</dcterms:created>
  <dc:creator>Пользователь Windows</dc:creator>
  <dc:description/>
  <dc:language>en-US</dc:language>
  <cp:lastModifiedBy>maksym blagonravin</cp:lastModifiedBy>
  <dcterms:modified xsi:type="dcterms:W3CDTF">2018-04-25T10:34:25Z</dcterms:modified>
  <cp:revision>94</cp:revision>
  <dc:subject/>
  <dc:title>Ключи от интернета</dc:title>
</cp:coreProperties>
</file>